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731-D099-4B49-AE7D-5AABFEF9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DCD-87F2-4C77-B898-1C0BD5D9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60F-40A4-4F18-80F4-12B4C5C1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D4B-D732-479A-8246-9AF2282F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2CC-EF4F-4426-9373-FFEFD436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D521-5A65-4482-872E-A81F274B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55C-F0E8-4549-B3F8-27C3BA0F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25E-6D4B-49F5-B5FF-E41AC107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7CF-A637-4E21-8E99-88D3E10C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B3C0-8537-475B-97E2-6201117A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1C0-8B2F-4A86-B729-E917CE62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9B1-4D5D-4817-85DF-D456E34C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7F28-F80D-4AE7-8D11-7DD78697E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sultant.ru/law/hotdocs/57359.html" TargetMode="External"/><Relationship Id="rId2" Type="http://schemas.openxmlformats.org/officeDocument/2006/relationships/hyperlink" Target="http://www.consultant.ru/law/hotdocs/57359.html" TargetMode="External"/><Relationship Id="rId3" Type="http://schemas.openxmlformats.org/officeDocument/2006/relationships/hyperlink" Target="http://www.consultant.ru/law/hotdocs/57359.html" TargetMode="External"/><Relationship Id="rId4" Type="http://schemas.openxmlformats.org/officeDocument/2006/relationships/hyperlink" Target="http://www.consultant.ru/law/hotdocs/57359.html" TargetMode="External"/><Relationship Id="rId5" Type="http://schemas.openxmlformats.org/officeDocument/2006/relationships/hyperlink" Target="http://www.consultant.ru/law/hotdocs/57359.html" TargetMode="External"/><Relationship Id="rId6" Type="http://schemas.openxmlformats.org/officeDocument/2006/relationships/hyperlink" Target="http://www.consultant.ru/law/hotdocs/57359.html" TargetMode="External"/><Relationship Id="rId7" Type="http://schemas.openxmlformats.org/officeDocument/2006/relationships/hyperlink" Target="http://www.consultant.ru/law/hotdocs/57359.html" TargetMode="External"/><Relationship Id="rId8" Type="http://schemas.openxmlformats.org/officeDocument/2006/relationships/hyperlink" Target="http://www.consultant.ru/law/hotdocs/57359.html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10 сентября 2020 г.</a:t>
            </a:r>
            <a:br>
              <a:rPr sz="2000"/>
            </a:br>
            <a:r>
              <a:rPr b="1" lang="ru-RU" sz="2000" spc="-1" strike="noStrike">
                <a:solidFill>
                  <a:srgbClr val="374c81"/>
                </a:solidFill>
                <a:latin typeface="Arial Narrow"/>
              </a:rPr>
              <a:t>КРАЕВОЙ ВЕБИНАР – СОВЕЩАНИЕ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009520"/>
            <a:ext cx="64008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Обновление содержания образования в контексте новых нормативных требований». 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редметная область 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«Географ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Зотова Д.А., с.н.с отдела СФГОС ГАУ ДПО ИРО ПК 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374c81"/>
                </a:solidFill>
                <a:latin typeface="Arial Narrow"/>
              </a:rPr>
              <a:t>z</a:t>
            </a:r>
            <a:r>
              <a:rPr b="1" lang="en-US" sz="1400" spc="-1" strike="noStrike">
                <a:solidFill>
                  <a:srgbClr val="374c81"/>
                </a:solidFill>
                <a:latin typeface="Arial Narrow"/>
              </a:rPr>
              <a:t>otovad@mail.ru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ект сетевой группы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«Общее образование»</a:t>
            </a:r>
            <a:br>
              <a:rPr sz="24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на 2020 год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25198"/>
                </a:solidFill>
                <a:latin typeface="Arial"/>
                <a:ea typeface="Times New Roman"/>
              </a:rPr>
              <a:t>Основны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ть условия для осознанного участия педагогических работников в работе тематических/проблемных групп и объединений на сайте «Педагогическое сообщество учителей Пермского кр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ть состав сетевых проблемных групп и организовать их регистрацию на портале в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годии 2020 года в рамках реализации приоритетных направлений ЦНППМП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ть научно-методическую поддержку  педагогам сетевых тематических групп в рамках предметных, методических, психолого-педагогических компетен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являть лучшие методики и практики и транслировать их через «Методическую копилку» для осуществления диссеминации опыта среди учительского сообщества Перм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Сетевая тематическая группа </a:t>
            </a:r>
            <a:r>
              <a:rPr b="1" lang="ru-RU" sz="2000" spc="-1" strike="noStrike">
                <a:solidFill>
                  <a:srgbClr val="970362"/>
                </a:solidFill>
                <a:latin typeface="Arial"/>
                <a:ea typeface="Calibri"/>
              </a:rPr>
              <a:t>учителей географии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Calibri"/>
              </a:rPr>
              <a:t> (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Times New Roman"/>
              </a:rPr>
              <a:t>начала организовываться весной,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рошу присоединиться желающим!!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  <a:ea typeface="Calibri"/>
              </a:rPr>
              <a:t>Тема: «Естественнонаучная грамотность педагога как необходимое условие реализации Национального проекта «Образование».</a:t>
            </a:r>
            <a:br>
              <a:rPr sz="2000"/>
            </a:b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Цель: Повышение профессиональной компетенции учителей географии  по  формированию естественнонаучной грамот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Научно-методическое сопровождение</a:t>
            </a:r>
            <a:br>
              <a:rPr sz="1400"/>
            </a:b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сетевых проблемных</a:t>
            </a:r>
            <a:r>
              <a:rPr b="0" i="1" lang="en-US" sz="14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i="1" lang="ru-RU" sz="1400" spc="-1" strike="noStrike">
                <a:solidFill>
                  <a:srgbClr val="ff3300"/>
                </a:solidFill>
                <a:latin typeface="Times New Roman"/>
              </a:rPr>
              <a:t>тематических групп географов в свете новых вызовов образования                   </a:t>
            </a:r>
            <a:r>
              <a:rPr b="1" i="1" lang="ru-RU" sz="1400" spc="-1" strike="noStrike">
                <a:solidFill>
                  <a:srgbClr val="ff3300"/>
                </a:solidFill>
                <a:latin typeface="Times New Roman"/>
              </a:rPr>
              <a:t>2020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ля учителей географии всех типов О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евой семинар-практику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 u="sng">
                <a:solidFill>
                  <a:srgbClr val="ff3300"/>
                </a:solidFill>
                <a:uFillTx/>
                <a:latin typeface="Times New Roman"/>
              </a:rPr>
              <a:t>Для сетевой проблемной группы учителей географи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сен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становочный семинар «Естественнонаучная грамотность педагога как необходимое условие реализации Национального проекта  «Образование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 2020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омежуточный семинар «Естественнонаучная грамотность учащихся основной и старшей школы: ее роль в подготовке выпускников к ГИА по географии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</a:rPr>
              <a:t>декабр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ь2020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тоговый семинар  «Презентация результатов работы СТГ учителей географии по формированию и оценке естественнонаучной грамотности школьников (в аспекте международного исследова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cc00"/>
                </a:solidFill>
                <a:latin typeface="Times New Roman"/>
              </a:rPr>
              <a:t>Серия семинаров, круглых столов и совещаний (по договоренности с ОУ, методическими объединениями учителей географии)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с привлечением опытных педагогов Пермского края, владеющих методами и приемами повышения естественнонаучной грамотности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38400" y="-339840"/>
            <a:ext cx="11620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14280" y="-420840"/>
            <a:ext cx="11572560" cy="77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т предметной оценки к оценке функциональной грамо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Arial"/>
              </a:rPr>
              <a:t>Функциональная грамотность учащихся-</a:t>
            </a:r>
            <a:r>
              <a:rPr b="1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способность обучающихся применять знания и умения для решения повседневных задач в ситуациях, которые отличаются от 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6 компонентов функциональной грамотности,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торые оцениваются в </a:t>
            </a:r>
            <a:r>
              <a:rPr b="0" lang="en-US" sz="1600" spc="-1" strike="noStrike">
                <a:solidFill>
                  <a:srgbClr val="025198"/>
                </a:solidFill>
                <a:latin typeface="Arial"/>
              </a:rPr>
              <a:t>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новные направления оцени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Читательская грамотнос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Естественно- научн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бобщенная характеристика  грамотности обучающихся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реативное 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Финансовая 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Глобальные компетенции(умения, ценности, отно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    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Особенности исследования </a:t>
            </a:r>
            <a:r>
              <a:rPr b="0" lang="en-US" sz="1600" spc="-1" strike="noStrike" u="sng">
                <a:solidFill>
                  <a:srgbClr val="025198"/>
                </a:solidFill>
                <a:uFillTx/>
                <a:latin typeface="Arial"/>
              </a:rPr>
              <a:t>PISA-2021</a:t>
            </a:r>
            <a:r>
              <a:rPr b="0" lang="ru-RU" sz="1600" spc="-1" strike="noStrike" u="sng">
                <a:solidFill>
                  <a:srgbClr val="025198"/>
                </a:solidFill>
                <a:uFillTx/>
                <a:latin typeface="Arial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Работа с большими многостраничными текстами в электронном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Интерактивные виды зад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25198"/>
                </a:solidFill>
                <a:latin typeface="Arial"/>
              </a:rPr>
              <a:t>Компьютерная форма проведения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128600" y="-277920"/>
            <a:ext cx="11401200" cy="74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166760" y="-282600"/>
            <a:ext cx="114775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114560" y="-158760"/>
            <a:ext cx="11373120" cy="718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Уважаемые коллеги!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Помня тот год, когда мы все объединились при обсуждении </a:t>
            </a:r>
            <a:r>
              <a:rPr b="0" lang="en-US" sz="1600" spc="-1" strike="noStrike">
                <a:solidFill>
                  <a:srgbClr val="ff3399"/>
                </a:solidFill>
                <a:latin typeface="Arial"/>
              </a:rPr>
              <a:t>«Концепции географического образования»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и вместе мы сделали много от Пермского края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ошу и сейчас объединиться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для наполнения контен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Эпос. Школа. (Библиотека)»,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чтобы каждый из нас мог пользоваться материалами не только многочисленных платформ, но и нашим собственным банком дистанционных урок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ны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лектронные сценарии уроков, ссылки на ресурсы тех тем, которые значатся в календарно-тематическом план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 2 четвер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тант нами пройден в 4 четверти и мы уже накопили определённый опы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192240"/>
            <a:ext cx="9144000" cy="65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8000" y="316080"/>
            <a:ext cx="925200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620640"/>
            <a:ext cx="98283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76480" y="-68400"/>
            <a:ext cx="1149696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0000" y="277560"/>
            <a:ext cx="73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ровни функциональной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амотности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SA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(Математика, Чтение, Естествознание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66"/>
          <p:cNvSpPr/>
          <p:nvPr/>
        </p:nvSpPr>
        <p:spPr>
          <a:xfrm>
            <a:off x="4356000" y="2205000"/>
            <a:ext cx="4330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Самостоятельно мыслящие и способные функционировать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ложны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67"/>
          <p:cNvSpPr/>
          <p:nvPr/>
        </p:nvSpPr>
        <p:spPr>
          <a:xfrm>
            <a:off x="4356000" y="3357720"/>
            <a:ext cx="47880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 уровен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проявляется способность использовать имеющиеся знания и умения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ля получения н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8"/>
          <p:cNvSpPr/>
          <p:nvPr/>
        </p:nvSpPr>
        <p:spPr>
          <a:xfrm>
            <a:off x="4356000" y="4797360"/>
            <a:ext cx="4788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 уровень – пороговый, базовый, при достижении которого учащиеся начинают демонстрировать применение знаний и умений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простейших не учеб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авая фигурная скобка 368"/>
          <p:cNvSpPr/>
          <p:nvPr/>
        </p:nvSpPr>
        <p:spPr>
          <a:xfrm>
            <a:off x="4140360" y="1989000"/>
            <a:ext cx="215640" cy="1368720"/>
          </a:xfrm>
          <a:custGeom>
            <a:avLst/>
            <a:gdLst>
              <a:gd name="textAreaLeft" fmla="*/ 0 w 215640"/>
              <a:gd name="textAreaRight" fmla="*/ 77760 w 215640"/>
              <a:gd name="textAreaTop" fmla="*/ 46080 h 1368720"/>
              <a:gd name="textAreaBottom" fmla="*/ 1322640 h 13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65"/>
                  <a:pt x="10800" y="2329"/>
                </a:cubicBezTo>
                <a:lnTo>
                  <a:pt x="10800" y="8471"/>
                </a:lnTo>
                <a:cubicBezTo>
                  <a:pt x="10800" y="9636"/>
                  <a:pt x="16200" y="10800"/>
                  <a:pt x="21600" y="10800"/>
                </a:cubicBezTo>
                <a:cubicBezTo>
                  <a:pt x="16200" y="10800"/>
                  <a:pt x="10800" y="11965"/>
                  <a:pt x="10800" y="13129"/>
                </a:cubicBezTo>
                <a:lnTo>
                  <a:pt x="10800" y="19271"/>
                </a:lnTo>
                <a:cubicBezTo>
                  <a:pt x="10800" y="204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69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2808360" cy="4972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0" y="214200"/>
            <a:ext cx="1409760" cy="4334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PISA_WebBanner6-01.jpg"/>
          <p:cNvPicPr/>
          <p:nvPr/>
        </p:nvPicPr>
        <p:blipFill>
          <a:blip r:embed="rId3"/>
          <a:stretch/>
        </p:blipFill>
        <p:spPr>
          <a:xfrm>
            <a:off x="7596360" y="0"/>
            <a:ext cx="154764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Концептуальная рамка оценки функциональной грамотности в исследовани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PISA</a:t>
            </a: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 (блок зад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120" y="1523880"/>
          <a:ext cx="8229600" cy="5253120"/>
        </p:xfrm>
        <a:graphic>
          <a:graphicData uri="http://schemas.openxmlformats.org/drawingml/2006/table">
            <a:tbl>
              <a:tblPr/>
              <a:tblGrid>
                <a:gridCol w="2133360"/>
                <a:gridCol w="3351240"/>
                <a:gridCol w="274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тель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етентностная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екст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ы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плошные, несплошные, виртуаль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ть с информацие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находить и извлек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осмысливать и оцен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интерпретир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 ч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ы матема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ть, применять, интерпретировать и оценивать результаты с позиций математики и реальной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р индивидуума, социума, образования и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Естественнонауч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Метод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ать научные объясне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нять естественнонаучные методы исследовани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рпретировать данные, делать вы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оровье, ресурсы, окружающая среда, связь науки и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</a:rPr>
              <a:t>Алгоритм действий по достижению данной ц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се рабочие программы должны предусматривать деятельность по формированию ФГ (в особенности это касается Русского языка, Литературного чтения, Иностранного языка, Математики, и Окружающего мира в начальной школе; Русского языка, Литературы, Иностранного языка, Математики,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Географии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Биологии, Физики, Химии, Обществознания с основ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отреть возможность введения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рса внеурочной деятельно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 для обучающихся 5 – 9 клас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бочую программу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«Читательская грамотность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му воспитания и соци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бозначив формирование ФГ как приоритетную задач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нести изменения в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оложение о внутришкольной системе оценки качества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ВСОКО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но использовать на уроках и во внеурочное время всеми педагогами школы форм и методов обучения, способствующих формированию ФГ: ролевые игры, деловые игры, работа в группах, парах, метод проектов и др. коммуникация, сотрудничество, критическое мышление, креативность –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от главные качества, которыми должны овладеть обучающиеся 21 ве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пробировать  систему диагностики и  оценки учебных достижений (2020 год – 8 кл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влечение родителей к совместной деятельности по  формированию Ф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иться на КП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557360"/>
            <a:ext cx="8130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Самые трудные задания для российских школьников по результатам теста </a:t>
            </a:r>
            <a:r>
              <a:rPr b="0" lang="en-US" sz="3900" spc="-1" strike="noStrike">
                <a:solidFill>
                  <a:srgbClr val="000000"/>
                </a:solidFill>
                <a:latin typeface="Gill Sans MT"/>
              </a:rPr>
              <a:t>PISA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br>
              <a:rPr sz="39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Найти и извлечь информацию из текста (1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нтегрировать и интерпретировать сообщения текста (2)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Осмыслить и оценить сообщения текста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PISA_WebBanner6-01.jpg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517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35576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Специфика тестовых заданий PI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т заданий PISA постоянно меняется, что исключает стратегию «натаскивания» на тес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ются не только умение работать с предъявленной информацией, но и способность использовать общий кругозор, анализ, синтез и лог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мся предлагаются множественные источники информации в форме текста, графики и видеофрагмен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дидаты оценивают и игнорируют избыточные сведения, а также учитывают ограничения и запреты по условиям за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ики сами разрабатывают алгоритм поиска решения и план своего отв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равильного ответа, бывает необходимо увидеть в информации глубокие смыслы и далёкие связи, построив умозаключение на подтек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ответа варьируется от множественного выбора до развёрнутого комментария и построения компьютерной модели (графика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функционального чтения-</a:t>
            </a:r>
            <a:br>
              <a:rPr sz="2000"/>
            </a:b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Calibri"/>
              </a:rPr>
              <a:t> умение обрабатывать, дополнять и применять прочитанную информацию для решения возникшей за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дания на функциональное чтение градуированы по труд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1 -  учащиеся могут использовать нужные для ответа фрагменты информации, доступные «на поверхности текст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2 - учащиеся интерпретируют для ответа фрагменты информации, извлекая из них скрытый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3 - учащиеся  умеют найти в тексте несколько значимых идей, соединяя их общим смыс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4 - учащиеся извлекают на поверхность  информацию «между строк» и применяют для от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5 -  учащиеся  извлекают знания из текстов и графики, из которых требуется извлечь нужные для ответа знания, обращая внимание на общий смысл и дета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ровень №6 - построен на текстах и графике, где содержится нужная для ответа информация в эксплицитной и имплицитной фор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месте с повышением уровня сложности заданий, возрастает роль эвристики – способности «замыкать» нужные связи для решения задачи, логики – умения соединять идеи для неслучайных выводов и продуктивности – готовности создавать собственную информацию средствами эвристики, логики и творческого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Основные итоги организации дистанционного обучения в 2019-2020 учебном году по географии в Пермском кра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Разработаны и размещены на сайте </a:t>
            </a:r>
            <a:r>
              <a:rPr b="0" lang="ru-RU" sz="2400" spc="-1" strike="noStrike">
                <a:solidFill>
                  <a:srgbClr val="ff3399"/>
                </a:solidFill>
                <a:latin typeface="Arial"/>
              </a:rPr>
              <a:t>«Сетевое сообщество педагогов Пермского края»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 в разделе общее образование следующие материал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организации дистанционного обучения географ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Представлен опыт работы учителей по проектированию уроков географии: «Лучший дистанционный урок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лен авторский сборник   из опыта учителей географии Пермского края. Публикация в «Вестнике Образования Пермского края» запланир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Calibri"/>
              </a:rPr>
              <a:t>Интеллектуальные умения на уроке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английского языка, можно эффективно формировать полезные интеллектуаль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оминать, узнавать и различать (memory skill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образовывать информацию в другие формы (information transf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претировать отношения и связи между иде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ять информацию и опыт для решения пробле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ировать явление, выделяя его составные части и стор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езировать новое понимание и знание в результате творче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тельно оценивать факты, явления, иде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081080" y="-139680"/>
            <a:ext cx="11306160" cy="71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-1190520" y="-39600"/>
            <a:ext cx="1152504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209600" y="-396720"/>
            <a:ext cx="11563200" cy="76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1190520" y="-135000"/>
            <a:ext cx="1152504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71520" y="39600"/>
            <a:ext cx="11687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200240" y="-235080"/>
            <a:ext cx="1154448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43000" y="54000"/>
            <a:ext cx="11430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2360" y="-6480"/>
            <a:ext cx="11448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-1166760" y="-291960"/>
            <a:ext cx="11477520" cy="74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5198"/>
                </a:solidFill>
                <a:latin typeface="Arial Narrow"/>
              </a:rPr>
              <a:t>Результаты ЕГЭ-2020 по географии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Количеств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457 человек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Средний бал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70,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100-бальни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18 человек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(самое большое количество, в нашем предмете!! кроме русского язы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79280" y="260280"/>
            <a:ext cx="878544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alibri"/>
              </a:rPr>
              <a:t>В 2021 г. Россия примет участие в Международной программе оценки качества обучения PISA;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сийские школьники 7-8 классов пройдут тестирование на функциональные компет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зикон – одно из трех российских официальных издательств цифрового контента предлагает новый продукт – цифровой тренажер по развитию функциональных компетенций учащихся для подготовки к международному исследованию PISA-2021. Тренажер включает 400 межпредметных компетентностных заданий на основе интерактивных моделей, видео, инфографики и текста. Школа может встроить использование тренажера в обычные школьные предметы или организовать подготовку в виде факультатив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 к цифровым тренажерам осуществляется на платформе «Облако знаний». Школа и учитель получат не только цифровые тренажеры, но и набор сервисов для планирования процесса обучения, автоматизации выдачи и проверки заданий, проведения вступительного и итогового тестирования по материалам PISA-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цензия на школу сопровождается методическими материалами, возможна организация обучающих вебинаров. Поставка цифровых тренажеров для подготовки к международному тестированию PISA-2021 может осуществляться в рамках реализации региональных мероприятий федерального проекта «Цифровая образовательная сре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Что ещё ожидает школ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Усиление воспитательной работы (Программа воспитания; 2020 г.-разработка; 2021 год – реализац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ВПР: выявление уровня подготовки после дистанционного обуч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4 сентября – 12 октября 2020 г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Проект «500+»:творческие лаборатории по школьным предметам с целью повышения педагогического мастер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Апробация отечественного аналога видеосерви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предназначенного для проведения уро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Тесная связь дополнительного образования и общ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.Новые критерии аттестации педагогов: полный анализ программ, единые оценочные процедур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должности – учитель-наставник, учитель-методист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. Государственная информационная система «Цифровая образовательная среда»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ронное проверенное содержание по четвертям, по полугодию, темам с целью создания целостности образовательного простран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. Специальное расписание, кабинетная систем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инимизация контактов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Arial"/>
              </a:rPr>
              <a:t>Приглашение  к участию в эксперименте!!!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атвеев Алексей Владимирович,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кандидат педагогических наук, автор методических пособий по методике преподавания географии в общеобразовательной школе, практикующий учитель географии (имеет высшую квалификационную категорию по должности «учитель»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агает рассмотреть вопрос участия в 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опытно-экспериментальной работе </a:t>
            </a:r>
            <a:r>
              <a:rPr b="0" lang="ru-RU" sz="2000" spc="-1" strike="noStrike">
                <a:solidFill>
                  <a:srgbClr val="996633"/>
                </a:solidFill>
                <a:latin typeface="Arial"/>
              </a:rPr>
              <a:t>по изучению эффективности применения в обучении географии разнообразных гео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кущем учебном году планируется задействовать обучающихся 5, 7, 8 и 10 классов. Существенных изменений в организации образовательного процесса не произойдет. При обучении школьников географи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óльш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имание необходимо будет обраща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спользованию геоиз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заинтересованы принять участие в предлагаемой опытно-экспериментальной работе, напишите об э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м будет выслан план участия и в течение учебного года будет осуществляться педагогическое и методическое сопровождение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1827360"/>
            <a:ext cx="7845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Спасибо за внимание!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9999"/>
                </a:solidFill>
                <a:latin typeface="Times New Roman"/>
              </a:rPr>
              <a:t>Приглашаем к сотрудничеству!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2773440" y="430200"/>
            <a:ext cx="1887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 Narrow"/>
              </a:rPr>
              <a:t>Качество выполн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реодолели поро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чел (доля – 0, 44%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порога до 6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1-до 80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81 - 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 че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64216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Проект нового стандарта основного общего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alibri"/>
              </a:rPr>
              <a:t>(5 - 9 классы) подготовлен Министерством просвещения и размещён на портале preobra.ru для общественного обсуждения в 2019 г.</a:t>
            </a:r>
            <a:r>
              <a:rPr b="0" lang="ru-RU" sz="2400" spc="-1" strike="noStrike">
                <a:solidFill>
                  <a:srgbClr val="99cc00"/>
                </a:solidFill>
                <a:latin typeface="Calibri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бновленном стандарт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и распределены по годам обучения требования к предметным результат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11 предметам, определ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и воспитательного и учебног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ов, приведе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соответствие предметные облас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ьного, основного и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улировки предметных результат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язаны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оритетами и перспективами научно-технологического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ребованиях к структуре образовательной программы унифицированы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кретизированы требования 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ому, содержательному и организацио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елам основной образователь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*Проект Приказа Минпросвещения России "Об утверждении федерального государственного образовательного стандарта основного общего образования (ФГОС ООО)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consultant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law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hotdocs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/57359.html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Проект приказа «О внесении изменения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</a:t>
            </a:r>
            <a:br>
              <a:rPr sz="1400"/>
            </a:br>
            <a:r>
              <a:rPr b="1" lang="ru-RU" sz="1400" spc="-1" strike="noStrike">
                <a:solidFill>
                  <a:srgbClr val="ff3300"/>
                </a:solidFill>
                <a:latin typeface="Arial"/>
              </a:rPr>
              <a:t>от 17 мая 2012 г. № 413»</a:t>
            </a:r>
            <a:br>
              <a:rPr sz="2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сти в федеральный государственный образовательный стандарт среднего общего образования, утвержденный приказом Министерства образования и науки Российской Федерации от 17 мая 2012 г. № 413 (зарегистрирован Министерством юстиции Российской Федерации 7 июня 2012 г., регистрационный № 24480), с изменениями, внесенными приказами Министерства образования и науки Российской Федерации от 29 декабря 2014 г. № 1645 (зарегистрирован Министерством юстиции Российской Федерации 9 февраля 2015 г., регистрационный № 35953), от 31 декабря 2015 г. № 1578 (зарегистрирован Министерством юстиции Российской Федерации 9 февраля 2016 регистрационный № 41020) и от 29 июня 2017 г. № 613 (зарегистрирован Министерством юстиции Российской Федерации 26 июля 2017 г., регистрационный № 47532), изменение, изложив пункт 12 в следующей реда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12. Требования Стандарта к результатам освоения основной образовательной программы определяют содержательно-критериальную и нормативную основу оценки результатов освоения обучающимися основной образовательной программы, деятельности педагогических работников, организаций, осуществляющих образовательную деятель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е обучающимися основной образовательной программы завершается государственной итоговой аттестацией выпускников. Государственная итоговая аттестация обучающихся проводится по всем изучавшимся учебным предмет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5198"/>
                </a:solidFill>
                <a:latin typeface="Arial"/>
              </a:rPr>
              <a:t>Государственная итоговая аттестация обучающихся, освоивших основную образовательную программу, проводится в обязательном порядке по учебным предметам: «Русский язык» и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ающийся самостоятельно выбирает уровень (базовый или профильный), в соответствии с которым будет проводиться государственная итоговая аттестация по учебному предмету «Математи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ускается прохождение обучающимися государственной итоговой аттестации по завершению изучения отдельных учебных предметов на базовом уровне после 10 класса.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стр                                                                                                          С.С. Кравц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33336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Обновление в структуре ГАУ ДПО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"/>
          <p:cNvSpPr/>
          <p:nvPr/>
        </p:nvSpPr>
        <p:spPr>
          <a:xfrm>
            <a:off x="539640" y="981000"/>
            <a:ext cx="8209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  <a:ea typeface="Arial"/>
              </a:rPr>
              <a:t>Создание  центра непрерывного повышения профессионального мастерства педагогических работников (ЦНППМП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  <a:ea typeface="Arial"/>
              </a:rPr>
              <a:t>ул. Бородинская, 35 А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Arial"/>
              </a:rPr>
              <a:t>(Остановка «Муромская» или «Восток-Сервис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Структура центра</a:t>
            </a:r>
            <a:r>
              <a:rPr b="1" i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. Отдел сопровождения аттестационных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Организационно-методический 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Отдел научно-методического сопровождения обще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Кафедра профессионального масте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Цель деятельности</a:t>
            </a:r>
            <a:r>
              <a:rPr b="0" lang="ru-RU" sz="2000" spc="-1" strike="noStrike">
                <a:solidFill>
                  <a:srgbClr val="025198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условий для  непрерывного дополнительного  профессионального образования учителей на основе диагностики профессиональных компетенций, учета запросов в овладении новыми профессиональными компетенциями и учета  результатов оценочных процедур, проводимых в рамках добровольной независимой оценки профессиональной квалификаци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519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овые подходы к организации курсовой подготовк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 горизонтального обучен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P2P (анг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равный равному»), обучение внутри профессиональных сообществ педагогов; взаимообуч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сурсов одновременно нескольких организаций в реализации процесса непрерывн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раивание индивидуального образовательного маршрута педагога в повышении профессионально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7T07:04:39Z</dcterms:created>
  <dc:creator>Админ</dc:creator>
  <dc:description/>
  <dc:language>en-US</dc:language>
  <cp:lastModifiedBy>Админ</cp:lastModifiedBy>
  <dcterms:modified xsi:type="dcterms:W3CDTF">2020-09-10T10:23:32Z</dcterms:modified>
  <cp:revision>17</cp:revision>
  <dc:subject/>
  <dc:title>«Обновление содержания образования в контексте новых нормативных требований».  Предметная область «География» </dc:title>
</cp:coreProperties>
</file>